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25.jpeg" ContentType="image/jpeg"/>
  <Override PartName="/ppt/media/image3.png" ContentType="image/png"/>
  <Override PartName="/ppt/media/image1.jpeg" ContentType="image/jpe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7172-E2C7-4EF8-A171-56CDD2FB5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4A75-5091-4DCF-90BE-074D70B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F20-FAA7-49C7-9FFA-16453893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C56-9141-49F6-B1EC-4FC6B6AA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B887-08D0-4545-B664-802B788C9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3116-A2BA-45F1-9D3C-A58C6993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A0AF-C50A-44E6-9224-D4A57830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0E5D1-BDEC-42B4-BA03-75EAD97A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5926-9D14-4A15-AFF0-303778CD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AE65-2BC4-4BE9-AEAF-32B6C1B0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78E-24B3-4D6F-B50E-AE14912B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D87-6784-4848-A944-06BE78AF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B4AF-EE7F-494D-AEC3-B9F026E4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98EB-F08D-47B0-8778-F0A7727C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94A6-1AEF-4CB9-8925-F27E675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0E4F-55EA-498D-95B3-F448A1D5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53BB-8BF0-4E8C-910E-E05B5C4E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C0DFA-8C83-4161-A299-D7127246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F1A70-5436-4E0F-A621-CB6202A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1F8B0-F437-4237-942D-C1A5EAE10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46FF6-C2B8-40FA-8AC7-986D5DF3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C467B-C2E3-476F-B18E-7DE00A90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A446-5753-45B3-8436-4107B7A51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5EB6B-4531-4D42-8132-4D6EE965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FC12-947C-4E20-9101-96D3B708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DDA98-193C-4BE2-B6DB-D1C23F3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62C92-D12E-4E37-9BED-B2583A9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E19C-86E5-4548-8834-309327C5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CB1DF-1F2C-4437-8BC8-D3E5C11D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BD1E3-C5A2-4DE9-9154-6B5F3C6F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E38000-8426-4E88-A71E-EB9D504AE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8C88D7-350E-425E-93F6-E3DE9F49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BE3772-E806-4C04-BC23-B7E14C04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AC42-6DAE-47EB-A478-2E3D21A0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356EB0-AF80-4A07-BD28-8DD83CCC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DC8229-3773-4C74-8CBA-6219B1EC4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FA3690-EB1C-45EB-9B65-F2669E73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C5D2B-516F-4D01-9CB5-E3FEBE04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776E72-931A-4E29-85F0-3BF4C46A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791CC-D2F5-4EC4-8C0E-E38BA510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1E0C63-4E74-456F-A71E-28D01854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866500-56E4-47C7-AFB2-7CECBB8D2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8491D-EE26-4D8F-9203-D2848E547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AF81-5867-468B-9730-E26FD03E3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1894-177B-491A-B743-B044DDF1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5F8-01B8-407D-9464-47BD4361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2D9-53F2-439A-83CF-734188B7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6D6-9858-4053-85B1-0E2517CB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BA6A-4075-407B-B3EC-65F3058CC4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2AE9-B533-4A2B-8413-886A41E02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C926-2D57-478E-9A91-41E4E9047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FE1F-A414-44EB-9F03-5D7687DFE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643040"/>
            <a:ext cx="9144000" cy="18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ПАТОЛОГИЈА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ТЕМПОРОМАНДИБУЛАРНОГ</a:t>
            </a:r>
            <a:r>
              <a:rPr b="1" lang="sr-Latn-CS" sz="4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2060"/>
                </a:solidFill>
                <a:latin typeface="Cambria"/>
              </a:rPr>
              <a:t>ЗГЛОБ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1</a:t>
            </a:r>
            <a:r>
              <a:rPr b="0" lang="en-US" sz="1400" spc="-1" strike="noStrike">
                <a:solidFill>
                  <a:srgbClr val="ffffff"/>
                </a:solidFill>
                <a:latin typeface="Cambria"/>
              </a:rPr>
              <a:t>1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ни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ро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ши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истич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а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и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гур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ш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реверзибил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м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с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преч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 непосред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миривањ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ко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ч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тив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еж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о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нз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15-20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оде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28760" y="1600200"/>
            <a:ext cx="8486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уматс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их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ледећ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хваћ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ol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rthriti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rheu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spond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arth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anc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lopoetica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morbus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Bechtere</a:t>
            </a:r>
            <a:r>
              <a:rPr b="0" i="1" lang="sr-Latn-CS" sz="2000" spc="-1" strike="noStrike">
                <a:solidFill>
                  <a:srgbClr val="000000"/>
                </a:solidFill>
                <a:latin typeface="Cambria"/>
              </a:rPr>
              <a:t>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psori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TMJ_arthritis"/>
          <p:cNvPicPr/>
          <p:nvPr/>
        </p:nvPicPr>
        <p:blipFill>
          <a:blip r:embed="rId2"/>
          <a:stretch/>
        </p:blipFill>
        <p:spPr>
          <a:xfrm>
            <a:off x="5572080" y="3071880"/>
            <a:ext cx="3357720" cy="3338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стан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 постеп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е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ди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актеристич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с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рит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чавај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429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РЕУМАТОИД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АРТР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036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чет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дију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ндг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имцим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напредовал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учаје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струк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р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пондилоартрити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поет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овонаста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ут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ос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ри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жа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овиличних зглобов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м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пут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уматол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жиш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нистич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л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ре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рад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вентив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н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клања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омал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42920" y="1214280"/>
            <a:ext cx="8786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ћ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ter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oideus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terali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па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координ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"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лабављ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сул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"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зро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понт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вобит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0560" indent="-16056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нхр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пу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д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егов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уберкулу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уберкулар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13840" y="1143000"/>
            <a:ext cx="89298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он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јач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ет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ифесту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 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цијен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колину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же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дицинс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моћи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лик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о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рминал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ма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мак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чив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виц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кутић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5-7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м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 Испр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ип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з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паж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уј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луксације</a:t>
            </a:r>
            <a:r>
              <a:rPr b="0" lang="sr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287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СУБЛУКСАЦИЈ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840" y="121428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блукс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pterygoideus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1800" spc="-1" strike="noStrike">
                <a:solidFill>
                  <a:srgbClr val="000000"/>
                </a:solidFill>
                <a:latin typeface="Arial"/>
              </a:rPr>
              <a:t>lateralis-a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нос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и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пис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ш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haum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1960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одине</a:t>
            </a:r>
            <a:r>
              <a:rPr b="0" lang="sr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ж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в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за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ош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так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ла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ст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с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реч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пр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ев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уд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и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мерен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дес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дњ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лар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отној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ретањ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орени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вод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ледал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2-3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ан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480" indent="-15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рапи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чје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зрас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ристи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мобилизацион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ав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драсл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клерозант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редст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камент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бризга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њ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азивајућ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терилн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паље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сни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иброз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граничавај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185724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љив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тпу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овиличн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a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ље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кстраартикулар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жно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сеудоанкило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k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sis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uria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786880" cy="35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с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ут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ркавич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hropathia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ormans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рек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ж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оре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так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и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м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варање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ранулацио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рашћењ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имич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чуван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иброз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217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тиолошк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актор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лађ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F2"/>
          <p:cNvPicPr/>
          <p:nvPr/>
        </p:nvPicPr>
        <p:blipFill>
          <a:blip r:embed="rId2"/>
          <a:srcRect l="0" t="0" r="0" b="9101"/>
          <a:stretch/>
        </p:blipFill>
        <p:spPr>
          <a:xfrm>
            <a:off x="2214720" y="4429080"/>
            <a:ext cx="550044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АНКИЛ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920" y="1214280"/>
            <a:ext cx="8929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в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си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гит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нсверзал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аз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едљи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ме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формите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ш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вршетк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ерациј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могућав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број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риоз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у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дилектом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страњ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шта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м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об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нов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постављ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дуц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0920" y="1571400"/>
            <a:ext cx="57150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једи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покретни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састав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Cambria"/>
              </a:rPr>
              <a:t>улазе</a:t>
            </a:r>
            <a:r>
              <a:rPr b="1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врж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foss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л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disc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apsul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articularis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новијал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tmj1"/>
          <p:cNvPicPr/>
          <p:nvPr/>
        </p:nvPicPr>
        <p:blipFill>
          <a:blip r:embed="rId2"/>
          <a:stretch/>
        </p:blipFill>
        <p:spPr>
          <a:xfrm>
            <a:off x="5643720" y="2214720"/>
            <a:ext cx="3335040" cy="33573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4"/>
          <p:cNvSpPr/>
          <p:nvPr/>
        </p:nvSpPr>
        <p:spPr>
          <a:xfrm>
            <a:off x="-1071000" y="-4287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embrana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novialis</a:t>
            </a:r>
            <a:r>
              <a:rPr b="0" i="1" lang="sr-Latn-CS" sz="18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762120" y="12952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Темпоромадибуларни поремећаји дефи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шу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се као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груп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орофацијалних поремећаја с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у преаурикуларном подручју,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чн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глобовима (ТМЗ-у) или жв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каћим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мишићима с ограничењима у распону и девијацијама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покрета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доње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звуковима ТМЗ-а т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ком жвак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2000" spc="-1" strike="noStrike">
                <a:solidFill>
                  <a:srgbClr val="002060"/>
                </a:solidFill>
                <a:latin typeface="Arial"/>
              </a:rPr>
              <a:t>TMP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(темпоромандибулар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ни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 бол)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је уверљиво најчешћ</a:t>
            </a:r>
            <a:r>
              <a:rPr b="1" lang="en-US" sz="2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 бол у орофацијалном подруч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4511520" y="3780000"/>
            <a:ext cx="2065320" cy="26812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3"/>
          <a:stretch/>
        </p:blipFill>
        <p:spPr>
          <a:xfrm>
            <a:off x="2451240" y="3780000"/>
            <a:ext cx="2144520" cy="2717640"/>
          </a:xfrm>
          <a:prstGeom prst="rect">
            <a:avLst/>
          </a:prstGeom>
          <a:ln w="0">
            <a:noFill/>
          </a:ln>
        </p:spPr>
      </p:pic>
      <p:sp>
        <p:nvSpPr>
          <p:cNvPr id="213" name="TextBox 7"/>
          <p:cNvSpPr/>
          <p:nvPr/>
        </p:nvSpPr>
        <p:spPr>
          <a:xfrm>
            <a:off x="785880" y="-712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ПОРЕМЕЋА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14200" y="1357200"/>
            <a:ext cx="47894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Узроци темпоромандибуларног бола могу бит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оремећај оклуз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убоки болни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а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дражај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арафункц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налне</a:t>
            </a: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 активно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олошки проблеми повезани с емоционалним стрес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2060"/>
                </a:solidFill>
                <a:latin typeface="Cambria"/>
              </a:rPr>
              <a:t>психијатријски поремећа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2"/>
          <a:stretch/>
        </p:blipFill>
        <p:spPr>
          <a:xfrm>
            <a:off x="5102280" y="1365120"/>
            <a:ext cx="3438360" cy="46641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Т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3160" y="1981080"/>
            <a:ext cx="4267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Темпоромандибуларни бол се јавља  код 4-12% опште популације  жене: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мушкарци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2:1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Знаци и симптоми достижу максимум код особа старости 20-40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1" descr=""/>
          <p:cNvPicPr/>
          <p:nvPr/>
        </p:nvPicPr>
        <p:blipFill>
          <a:blip r:embed="rId2"/>
          <a:stretch/>
        </p:blipFill>
        <p:spPr>
          <a:xfrm>
            <a:off x="4870440" y="1444680"/>
            <a:ext cx="3597120" cy="478476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ЕПИДЕМИОЛОГИЈА ТЕМПОРОМАНДИБУЛАРНОГ ПОРЕМЕЋА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285840" y="1500120"/>
            <a:ext cx="8858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Необични звукови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- ш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кљоцање, пуцкетање или шкрипање приликом отварања уста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Звукови зглоба се деле у шкљоцање или крепита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Шкљоцање је један звук кратког трајања који је релативно глас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репитације </a:t>
            </a: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су </a:t>
            </a: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мултипли звукови који се описују као шкрипањ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Бол у уху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002060"/>
                </a:solidFill>
                <a:latin typeface="Cambria"/>
              </a:rPr>
              <a:t>Јутарња укоченост и болна осетљивост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Отежано жвакањ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лавобоље</a:t>
            </a:r>
            <a:r>
              <a:rPr b="1" lang="sr-Latn-RS" sz="2400" spc="-1" strike="noStrike">
                <a:solidFill>
                  <a:srgbClr val="002060"/>
                </a:solidFill>
                <a:latin typeface="Cambria"/>
              </a:rPr>
              <a:t>;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граничено покретање </a:t>
            </a:r>
            <a:r>
              <a:rPr b="1" lang="sr-Latn-CS" sz="2400" spc="-1" strike="noStrike">
                <a:solidFill>
                  <a:srgbClr val="002060"/>
                </a:solidFill>
                <a:latin typeface="Cambria"/>
              </a:rPr>
              <a:t>вил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924600" y="4065480"/>
            <a:ext cx="1895400" cy="2438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СИМПТОМИ ТЕМПОРОМАНДИБУЛАРНЕ ДИСФУН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000080" y="15714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КЛИНИЧКИ ПРЕГЛЕ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2060"/>
                </a:solidFill>
                <a:latin typeface="Cambria"/>
              </a:rPr>
              <a:t>РАДИОГРАФСКА ИСПИТ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857240" y="3071880"/>
            <a:ext cx="5224680" cy="30938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6"/>
          <p:cNvSpPr/>
          <p:nvPr/>
        </p:nvSpPr>
        <p:spPr>
          <a:xfrm>
            <a:off x="0" y="-71280"/>
            <a:ext cx="9144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ДИЈАГНОЗА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714240" y="1428480"/>
            <a:ext cx="8072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ечење се темељи на физикалној терапији, лековима и употреби оклузалних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плинтов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Физикална терапија се дели на ону која смањује бол и на ону која побољшава функциј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В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ажн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и топл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облог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е –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10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-15 минута не дуже од 30 минута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Хладне облоге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 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не дуже од 5-7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С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прејеви (етил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х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лорид и флуорометан)</a:t>
            </a:r>
            <a:r>
              <a:rPr b="0" lang="sr-Latn-R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алгети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ци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нестероидни антиинфламатор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2060"/>
                </a:solidFill>
                <a:latin typeface="Cambria"/>
              </a:rPr>
              <a:t>А</a:t>
            </a: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спирин, ацетаминофен и ибупрофе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2060"/>
                </a:solidFill>
                <a:latin typeface="Cambria"/>
              </a:rPr>
              <a:t>Антиинфламаторне лекове је потребно узимати 1-2 недеље како би постигли делотворне концентрације у кр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0" y="-712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500040" y="157176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2060"/>
                </a:solidFill>
                <a:latin typeface="Cambria"/>
              </a:rPr>
              <a:t>Оклузални сплинтови у 75% случајева редукују бол</a:t>
            </a:r>
            <a:r>
              <a:rPr b="1" lang="sr-Latn-RS" sz="20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Код пацијената са хроничним 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ТМ</a:t>
            </a:r>
            <a:r>
              <a:rPr b="1" i="1" lang="pl-PL" sz="2000" spc="-1" strike="noStrike">
                <a:solidFill>
                  <a:srgbClr val="002060"/>
                </a:solidFill>
                <a:latin typeface="Arial"/>
              </a:rPr>
              <a:t>P</a:t>
            </a:r>
            <a:r>
              <a:rPr b="1" i="1" lang="pl-PL" sz="2000" spc="-1" strike="noStrike">
                <a:solidFill>
                  <a:srgbClr val="002060"/>
                </a:solidFill>
                <a:latin typeface="Cambria"/>
              </a:rPr>
              <a:t>,</a:t>
            </a:r>
            <a:r>
              <a:rPr b="1" lang="pl-PL" sz="2000" spc="-1" strike="noStrike">
                <a:solidFill>
                  <a:srgbClr val="002060"/>
                </a:solidFill>
                <a:latin typeface="Cambria"/>
              </a:rPr>
              <a:t> ова терапија се може употпунити 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психолошком потпо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когнитивно-бихевиорал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релаксационом терапиј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-21996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mbr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mbria"/>
              </a:rPr>
              <a:t>малим дозама трицикличних антидепрес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Хируршка терапија </a:t>
            </a:r>
            <a:r>
              <a:rPr b="1" lang="sr-CS" sz="2000" spc="-1" strike="noStrike">
                <a:solidFill>
                  <a:srgbClr val="990000"/>
                </a:solidFill>
                <a:latin typeface="Cambria"/>
              </a:rPr>
              <a:t>обољења 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темпоромандибуларног бола  није терапијска опција</a:t>
            </a:r>
            <a:r>
              <a:rPr b="1" lang="pl-PL" sz="2000" spc="-1" strike="noStrike">
                <a:solidFill>
                  <a:srgbClr val="99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6" descr=""/>
          <p:cNvPicPr/>
          <p:nvPr/>
        </p:nvPicPr>
        <p:blipFill>
          <a:blip r:embed="rId2"/>
          <a:srcRect l="0" t="0" r="1762" b="0"/>
          <a:stretch/>
        </p:blipFill>
        <p:spPr>
          <a:xfrm>
            <a:off x="5715000" y="4214880"/>
            <a:ext cx="2994120" cy="21873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rcRect l="0" t="0" r="2142" b="4298"/>
          <a:stretch/>
        </p:blipFill>
        <p:spPr>
          <a:xfrm>
            <a:off x="5643720" y="1571760"/>
            <a:ext cx="2982600" cy="23382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0" y="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400" spc="-1" strike="noStrike">
                <a:solidFill>
                  <a:srgbClr val="ffffff"/>
                </a:solidFill>
                <a:latin typeface="Cambria"/>
              </a:rPr>
              <a:t>ЛЕЧЕЊЕ ТЕМПОРОМАНДИБУЛАРНИХ ДИСФУНК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КОНТУЗИЈЕ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13840" y="12859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директ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д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ша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х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ксим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ште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48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ас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бије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ло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брз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сорп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ли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ш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е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плот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вету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ж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ШТЕЋ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рочит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дар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егов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цепа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чем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фракту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ом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RS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tmj_anatomy"/>
          <p:cNvPicPr/>
          <p:nvPr/>
        </p:nvPicPr>
        <p:blipFill>
          <a:blip r:embed="rId2"/>
          <a:srcRect l="0" t="0" r="0" b="3937"/>
          <a:stretch/>
        </p:blipFill>
        <p:spPr>
          <a:xfrm>
            <a:off x="2928960" y="3624120"/>
            <a:ext cx="32860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ПРЕ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1285920"/>
            <a:ext cx="528624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ње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лак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uscul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pter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y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goideu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lateralis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међ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tuberc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rticular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capitulum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он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ћ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6" descr="15032W"/>
          <p:cNvPicPr/>
          <p:nvPr/>
        </p:nvPicPr>
        <p:blipFill>
          <a:blip r:embed="rId2"/>
          <a:stretch/>
        </p:blipFill>
        <p:spPr>
          <a:xfrm>
            <a:off x="5357880" y="2571840"/>
            <a:ext cx="378612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ЕМПОРОМАНДИБУЛАРНИ  ЗГЛ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7" descr="TMJ%20joint"/>
          <p:cNvPicPr/>
          <p:nvPr/>
        </p:nvPicPr>
        <p:blipFill>
          <a:blip r:embed="rId2"/>
          <a:stretch/>
        </p:blipFill>
        <p:spPr>
          <a:xfrm>
            <a:off x="990720" y="1523880"/>
            <a:ext cx="714348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ЗАД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ДИСКУ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вој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им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елимин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m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terigoideusa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lateralisa</a:t>
            </a:r>
            <a:r>
              <a:rPr b="0" i="1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ку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уч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кљеште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немогућав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творени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ђ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птом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нош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цијен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јав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грани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кт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вш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ви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а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писа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РАУМАТСК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МАНДИБУ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3840" y="1285560"/>
            <a:ext cx="85726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јств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беркулу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ртикула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в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кси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могуће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знатн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р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ч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ев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ме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оматолош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тервен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овори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ет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абитуел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ам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намне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ш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у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гађ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ЈЕДН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о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уматск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200" spc="-1" strike="noStrike">
                <a:solidFill>
                  <a:srgbClr val="000000"/>
                </a:solidFill>
                <a:latin typeface="Cambria"/>
              </a:rPr>
              <a:t>tuberculum auriculare</a:t>
            </a:r>
            <a:r>
              <a:rPr b="0" i="1" lang="sr-Latn-RS" sz="1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раж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ањ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пи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ж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вучена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и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рште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мећ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унк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6" descr="image141"/>
          <p:cNvPicPr/>
          <p:nvPr/>
        </p:nvPicPr>
        <p:blipFill>
          <a:blip r:embed="rId2"/>
          <a:stretch/>
        </p:blipFill>
        <p:spPr>
          <a:xfrm>
            <a:off x="1357200" y="4643280"/>
            <a:ext cx="3262320" cy="1874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8" descr="image143"/>
          <p:cNvPicPr/>
          <p:nvPr/>
        </p:nvPicPr>
        <p:blipFill>
          <a:blip r:embed="rId3"/>
          <a:stretch/>
        </p:blipFill>
        <p:spPr>
          <a:xfrm>
            <a:off x="4786200" y="4643280"/>
            <a:ext cx="297360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СТРАН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лаз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RS" sz="2600" spc="-1" strike="noStrike">
                <a:solidFill>
                  <a:srgbClr val="000000"/>
                </a:solidFill>
                <a:latin typeface="Cambria"/>
              </a:rPr>
              <a:t>tuberculum auricul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стан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остра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укса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ежан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ов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могу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е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мнестичк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датк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иметрич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во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елос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жљивом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тиск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едерир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луз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ремеће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отал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пертогнат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нуд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геније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вуче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аз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ама</a:t>
            </a:r>
            <a:r>
              <a:rPr b="0" lang="sr-Latn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УКСА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0920" y="1189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асн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тварач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леде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циј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дећ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врсти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зглавље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држа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систен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алчев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ављ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риз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рши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и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ла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ети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ухв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траора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аз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наж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вл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до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т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стран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уксаци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кушав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аћ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в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ра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д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мах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ру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Luxation2"/>
          <p:cNvPicPr/>
          <p:nvPr/>
        </p:nvPicPr>
        <p:blipFill>
          <a:blip r:embed="rId2"/>
          <a:srcRect l="0" t="0" r="0" b="5911"/>
          <a:stretch/>
        </p:blipFill>
        <p:spPr>
          <a:xfrm>
            <a:off x="2571840" y="4848120"/>
            <a:ext cx="39956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авља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руг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а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ир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стој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ла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aput mandibulae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ambria"/>
              </a:rPr>
              <a:t>(collum mandibulae)</a:t>
            </a:r>
            <a:r>
              <a:rPr b="0" i="1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ханизм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ндиректан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л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ич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јству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раде</a:t>
            </a:r>
            <a:r>
              <a:rPr b="0" lang="sr-Latn-R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асификуј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1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укасцио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6" descr="aps-39-291-g007-l"/>
          <p:cNvPicPr/>
          <p:nvPr/>
        </p:nvPicPr>
        <p:blipFill>
          <a:blip r:embed="rId2"/>
          <a:stretch/>
        </p:blipFill>
        <p:spPr>
          <a:xfrm>
            <a:off x="2071800" y="4714920"/>
            <a:ext cx="500040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ПРЕЛОМИ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en-US" sz="3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r>
              <a:rPr b="1" lang="sr-Latn-RS" sz="3400" spc="-1" strike="noStrike">
                <a:solidFill>
                  <a:srgbClr val="ffffff"/>
                </a:solidFill>
                <a:latin typeface="Cambria"/>
              </a:rPr>
              <a:t> - </a:t>
            </a:r>
            <a:r>
              <a:rPr b="1" lang="sr-CS" sz="3400" spc="-1" strike="noStrike">
                <a:solidFill>
                  <a:srgbClr val="ffffff"/>
                </a:solidFill>
                <a:latin typeface="Cambria"/>
              </a:rPr>
              <a:t>класификациј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1280" y="1332000"/>
            <a:ext cx="900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рактурн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инеар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преч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имптоматолог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скуд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рауматск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едем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аб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зражен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ремећај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клузи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дост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нимал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в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јагноз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пућу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ушај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2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ва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рст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в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окализац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олова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друже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м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ентал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гиј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прот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мфиз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гулус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андибул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за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атер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зл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јчешћ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ислокациј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дијалн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с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пој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ambria"/>
              </a:rPr>
              <a:t>m. pterygoideus lateralis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8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3)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Луксацион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ндиларног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в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линич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лик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зраженија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тходних</a:t>
            </a: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8680" indent="-238680"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ов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цапут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ндибула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апуш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аму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ат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псуле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них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гамената</a:t>
            </a:r>
            <a:r>
              <a:rPr b="0" lang="en-US" sz="1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ЛЕЧЕ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ПОВРЕДА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ДОЊЕ</a:t>
            </a:r>
            <a:r>
              <a:rPr b="1" lang="en-U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ВИЛИЦЕ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-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КОНДИЛАРНОГ</a:t>
            </a:r>
            <a:r>
              <a:rPr b="1" lang="sr-Latn-CS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Cambria"/>
              </a:rPr>
              <a:t>НАСТА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57120" y="1999800"/>
            <a:ext cx="85010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збор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метод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фрактур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доњ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илиц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н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авис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ам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рст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окализације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релом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пштег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пацијент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,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већ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од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број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стањ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зуба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4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Хируршко</a:t>
            </a:r>
            <a:r>
              <a:rPr b="1" lang="en-US" sz="24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2400" spc="-1" strike="noStrike">
                <a:solidFill>
                  <a:srgbClr val="002060"/>
                </a:solidFill>
                <a:latin typeface="Cambria"/>
              </a:rPr>
              <a:t>леч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КОНЗЕРВАТИВНО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ЛЕЧЕЊ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ОДРАЗУМ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претход</a:t>
            </a:r>
            <a:r>
              <a:rPr b="0" lang="sr-RS" sz="3200" spc="-1" strike="noStrike">
                <a:solidFill>
                  <a:srgbClr val="002060"/>
                </a:solidFill>
                <a:latin typeface="Cambria"/>
              </a:rPr>
              <a:t>н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е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м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репози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mbria"/>
              </a:rPr>
              <a:t>III - </a:t>
            </a:r>
            <a:r>
              <a:rPr b="0" lang="sr-CS" sz="3200" spc="-1" strike="noStrike">
                <a:solidFill>
                  <a:srgbClr val="002060"/>
                </a:solidFill>
                <a:latin typeface="Cambria"/>
              </a:rPr>
              <a:t>имобилиз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7" descr="Archbars_Inter-Maxillary_Fixation-741x558"/>
          <p:cNvPicPr/>
          <p:nvPr/>
        </p:nvPicPr>
        <p:blipFill>
          <a:blip r:embed="rId2"/>
          <a:stretch/>
        </p:blipFill>
        <p:spPr>
          <a:xfrm>
            <a:off x="4643280" y="3286080"/>
            <a:ext cx="310860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4200" y="1285560"/>
            <a:ext cx="8715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личит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атолошк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цес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ч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в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њихов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дел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бјектив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тегоб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ам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чи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ртр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нкилоз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с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след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функционалних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image001"/>
          <p:cNvPicPr/>
          <p:nvPr/>
        </p:nvPicPr>
        <p:blipFill>
          <a:blip r:embed="rId2"/>
          <a:stretch/>
        </p:blipFill>
        <p:spPr>
          <a:xfrm>
            <a:off x="1285920" y="4357800"/>
            <a:ext cx="65628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13840" y="150012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избеж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нипул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ад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ислокациј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њиховог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аћањ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ормал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натомск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зицију</a:t>
            </a:r>
            <a:r>
              <a:rPr b="0" lang="sr-R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одвоји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д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мобилизаци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о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авез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тходи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врш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нуелн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ис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љешт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кц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уме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стенови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ј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мере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уч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ислоцира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вод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жељ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-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рвав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ируршк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позициј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- 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чи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колик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нзервативни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чином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жемо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т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довољавајућ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акођ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обичајени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ступак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орених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лома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en-U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КОНЗЕРВАТИВНО</a:t>
            </a:r>
            <a:r>
              <a:rPr b="1" lang="en-U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ЛЕЧЕЊЕ</a:t>
            </a:r>
            <a:br>
              <a:rPr sz="3600"/>
            </a:b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имобилиз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коли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новних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о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о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еб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пун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звољ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крет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фрагменат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дностав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стављ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рауматиз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уб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гингив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бил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виђен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могућав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храну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државањ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бр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игије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н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упљ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бзиром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рем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ст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редство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мењуј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обилизациј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и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ефинити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УМОР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13840" y="1071360"/>
            <a:ext cx="8858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чн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етк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алиг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од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рачу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де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стај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коли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кундар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тај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мар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ениг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умо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aput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Cambria"/>
              </a:rPr>
              <a:t>mandibulae</a:t>
            </a:r>
            <a:r>
              <a:rPr b="0" i="1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ифиц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фиброосте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о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ифицирају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ћ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ксо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е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хондросарком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ф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бросарком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тастазе</a:t>
            </a:r>
            <a:r>
              <a:rPr b="0" lang="sr-RS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ANd9GcSLr8MvgTw4JADi-Y2SOljvZOv_wNI3oOv9967HBB0mq0xp52Ox"/>
          <p:cNvPicPr/>
          <p:nvPr/>
        </p:nvPicPr>
        <p:blipFill>
          <a:blip r:embed="rId2"/>
          <a:stretch/>
        </p:blipFill>
        <p:spPr>
          <a:xfrm>
            <a:off x="4143240" y="3857760"/>
            <a:ext cx="482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СИМПТОМИ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36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000" y="1213920"/>
            <a:ext cx="83296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ли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лепоочном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алпациј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астикатор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нфр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упрахиоидних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врат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рамен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јас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спонтан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меког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непц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Cambria"/>
              </a:rPr>
              <a:t>језика</a:t>
            </a:r>
            <a:r>
              <a:rPr b="0" lang="sr-Latn-CS" sz="1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ежан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пису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граничен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евијациј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твар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хоризонт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вертикалном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авц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крепитациј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шкљоца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глобов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окре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затвара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болов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ш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разн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сметњ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гутањ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љувачке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осећај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печењ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устима</a:t>
            </a:r>
            <a:r>
              <a:rPr b="0" lang="sr-Latn-CS" sz="20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Cambria"/>
              </a:rPr>
              <a:t>есвест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ПРИМАРН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ОБО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99760" y="1714680"/>
            <a:ext cx="79009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нат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ђ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г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екунд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аст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арафункционалних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метњ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томатогнат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лативн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ет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јав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кри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велик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ћнос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грешн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ијагно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римар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бо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брајамо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ртритис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рауматск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оштећ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тумор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поремећаје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развитк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апаљењ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доњовиличног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могу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бити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Акут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Хронична</a:t>
            </a:r>
            <a:r>
              <a:rPr b="0" lang="sr-Latn-CS" sz="28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Специфич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mbria"/>
              </a:rPr>
              <a:t>Неспецифичн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азивај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афил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трептокок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хематоге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узетн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рет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чешћ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и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з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колин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per</a:t>
            </a:r>
            <a:r>
              <a:rPr b="0" i="1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mbria"/>
              </a:rPr>
              <a:t>continuitatem</a:t>
            </a:r>
            <a:r>
              <a:rPr b="0" i="1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ајчешћ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т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еди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урулент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ст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так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др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вид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могућност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ширењ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неспецифич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акутног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аротитиса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овреде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ЗАПАЉЕЊА</a:t>
            </a:r>
            <a:r>
              <a:rPr b="1" lang="sr-Latn-CS" sz="40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Cambria"/>
              </a:rPr>
              <a:t>ТМ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1403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гл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ов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д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товрем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зна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с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рагус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х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о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ан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дир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тиск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рад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јављу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ак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хваћеном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тварањ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граничен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ом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њ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л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кре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болел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мировањ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узи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з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ч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ј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лаз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ев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цент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грижа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драво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нетијев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ложај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)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ч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главиц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болес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стране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лак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омерен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ем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напр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је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глобн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остор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добиј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ећ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ремину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услед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апаљивог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ексудат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пра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висок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температура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стал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општ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знаци</a:t>
            </a:r>
            <a:r>
              <a:rPr b="0" lang="sr-Latn-CS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mbria"/>
              </a:rPr>
              <a:t>инфекциј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6:47:19Z</dcterms:modified>
  <cp:revision>760</cp:revision>
  <dc:subject/>
  <dc:title>Diapositiva 1</dc:title>
</cp:coreProperties>
</file>